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explode.wav" ContentType="audio/x-wav"/>
  <Override PartName="/ppt/media/image22.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type.wav" ContentType="audio/x-wav"/>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7FA1-E0BA-46C6-802D-DEB1FCAED46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EAD5-0523-46B4-BF2C-031C74CAF59E}"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762B-4ED4-4528-8E55-3C4526B3AEF2}"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8D7FE-38F7-402A-9EAC-F5C8F3C8C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8DEAF-5138-4975-B10D-622FF6EA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2F5E3-1DC8-4DD7-881D-214C33A3D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86602-7198-4C3A-A1DB-ED80DA9FE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B5977-DC8D-4A5B-A2D1-2106FC82A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13E49-98FF-4F65-A6F6-527B2A2CC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2D374-5C36-46C3-8631-4487B76CD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B9341-A845-4F31-9D4A-C9B77958E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0ADEB-87C6-4A3E-B507-F19F8A72D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DC078-14F1-40BA-B0B1-85CE90BEF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9D2E8-DB47-4E4E-81D6-8D00CC363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C6A5-F3C6-4B6F-8D8E-F74126D9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4A2A-4291-401D-AF77-21C30CF76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8A980-3F61-4EAD-84A2-DB89AAD81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E290A-D646-47C4-8FF2-D8017E2F5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8C506-2ABC-4352-B992-D18F001CA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B148E-F4BF-495F-840D-012B61756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176E4D-AAC5-41D7-86CE-D0C2317F77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4A5B6-FF2B-403E-8B0A-67977CCF1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6EAF7-7098-46B3-9C5B-2B729F25A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5D4D6-BD61-4914-A870-ABA230726E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3A34D-A5CF-4763-A01F-8B8492A5E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D1E20-BCA0-4C83-A0E3-9C083569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ADEDE-3A61-4A32-8C0F-DA45B92F6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AA033-46A7-4D77-9732-10F345D29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65C6A-6D13-4D7B-BB6D-1A05E90E5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F77A1-EAB2-4852-97A3-30ABA35FE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505DB-0D25-494E-A994-34F3AC2C6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D62BFC-A28A-4E11-A1CA-2C4A711596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E14FE6-CED1-4E89-8BB3-589D333542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A460FF-72D2-4945-830B-ACD54C8949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B0401-7865-412D-880F-E5A0E4DEA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639E0-3D89-4B45-93AE-9C93A95D6C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F3FD-DECF-4D7E-85DB-2962531CD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14545-93DB-4630-9F80-DBD8B9B70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0ECE99-AA7F-4C5E-B6EA-AF82BE030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D01AD-8E1D-46F7-AAA7-858E2E104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CBDF8-26BE-48F0-AA9D-7B56DFC60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F1A66-8C7B-4D55-9722-EC11C77DB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F91A6-C004-48FF-96FA-52991AE46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D86CD-4081-40D8-8624-85EADF006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E1772-4E48-4FDD-88D1-67D9456B1B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4C9B23-2E0F-401E-B3E5-23E60474B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8087B-5673-48E6-A504-8FA826BB7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9FCD7-F9FB-4440-AA30-43F04D809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138F5E-B596-4C69-AD9D-402C1E4C6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FA088-6C92-4A49-8978-48A216224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62912-3093-4FC2-817D-7E6E1AF4A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D5FEC-9D0C-4B8C-9D71-DFA0F464A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0683BF-9DB5-45E2-89C9-D949A09F6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BCD56-2972-46A7-AD7F-862FF917E2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3A673-3DAC-4DD7-8A55-811E6F409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B14E6-B0A5-414E-BB2F-3D4D15139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F13A3-A250-4C84-A374-A4F6A9878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987C94-B598-4F64-A264-1C19A2DA5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50AE8-E194-4D76-9DA7-5B34AFD2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39D84D-891D-4688-A489-8B87B9203F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8BC636-B916-4E9D-9015-F3712E51C7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2F094-D949-43B0-A66B-E1C09B6C9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1EC20-6CA7-4AFF-84B1-86074891C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410C0-5383-44D3-85D7-59553C7BD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0727D-0DCC-4C33-BB4F-D42C05C8DE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A8533-18F8-4FD6-9B9E-DE44800FF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98EDA-869C-4881-8C98-091791230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3121D6-0943-45E8-9845-64D7379DD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E9472-34F3-4F3E-AA68-7ADE3F64E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BC40-F5E6-416A-9918-56B54C472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0FA08-CAE0-454B-A615-5ABAC9E859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9D215-3878-4715-8F1B-62C7EFC882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2C5A11-DE21-47CC-BFBB-49E492CA0D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562BE4-9367-476E-AFB1-0076FC68A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9EC8B-35DD-402B-BCB8-4E727335C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FDA90-FCAC-425E-BB96-443F52143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C19789-FA6E-4F42-87B7-05DAB3003D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72B41-02D2-4957-9E06-6020EC9C8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55840D-B127-4849-9466-6DD724142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DF577-F7FD-4B7C-B4E3-354F159C2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C211E-6088-4D45-A319-67FA7862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33F78-4E82-40E1-A6A2-87158C306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CA53BF-8F1C-4724-96D2-29293F252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A438F-0895-4B83-8B9E-FB917A2B2C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959861-08DD-411C-B099-FDF4F1A38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D07CE1-14F9-4A04-8A0F-284E6F552D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042232-5DE7-42D9-B65F-F600CB5305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C35D0-E091-4242-A032-FE11B837E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B670D-48DE-425D-9A4A-FA4615AC9A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CA32E-F2C4-4AE4-9C1A-BA48BEDD9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E4833-FA87-4A33-AF18-6B44452B1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2D74B-3002-4535-9663-6939FFB5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4229C-B271-46D0-90F6-7A6F35D1F3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FCB80-50CC-4EDF-A262-950E5C4E1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DE0E8-A2CF-4F8A-AD47-E8E1478B1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8895C-3981-465F-9E6F-7D3FA1FAAA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CB8C7D-9896-4604-9A0E-E96B6B9E3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37BF93-5D80-4ED0-8A27-895C1DBA2E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E81EA5-A150-47C1-9B3A-27E151E4BF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B6B3-920A-4577-A59F-12696691EA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E244-F2BF-4ED1-9F6C-8C8E050002BC}"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91AA-D6B2-4620-B95C-C800701F36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Прямая соединительная линия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Прямая соединительная линия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37E3-8893-488F-A997-BFEAABE02C7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C2DC-41C0-48E2-BB73-81366D6ADB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BCBE-A0BA-4317-8C90-7C306B7B3DA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C8A7-A44E-4CFB-A56B-0520E6BEBA31}"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C090-1DCB-4F51-9FC5-49A2E59CAC1A}" type="slidenum">
              <a:rPr b="0" lang="ru-RU"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type.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Заголовок 1" descr=""/>
          <p:cNvPicPr/>
          <p:nvPr/>
        </p:nvPicPr>
        <p:blipFill>
          <a:blip r:embed="rId1"/>
          <a:stretch/>
        </p:blipFill>
        <p:spPr>
          <a:xfrm>
            <a:off x="536400" y="176040"/>
            <a:ext cx="8869680" cy="2073600"/>
          </a:xfrm>
          <a:prstGeom prst="rect">
            <a:avLst/>
          </a:prstGeom>
          <a:ln w="0">
            <a:noFill/>
          </a:ln>
        </p:spPr>
      </p:pic>
      <p:pic>
        <p:nvPicPr>
          <p:cNvPr id="353" name="Подзаголовок 2" descr=""/>
          <p:cNvPicPr/>
          <p:nvPr/>
        </p:nvPicPr>
        <p:blipFill>
          <a:blip r:embed="rId2"/>
          <a:stretch/>
        </p:blipFill>
        <p:spPr>
          <a:xfrm>
            <a:off x="2206800" y="4979880"/>
            <a:ext cx="7175160" cy="1884600"/>
          </a:xfrm>
          <a:prstGeom prst="rect">
            <a:avLst/>
          </a:prstGeom>
          <a:ln w="0">
            <a:noFill/>
          </a:ln>
        </p:spPr>
      </p:pic>
    </p:spTree>
  </p:cSld>
  <p:transition spd="slow">
    <p:strips dir="ru"/>
    <p:sndAc>
      <p:stSnd>
        <p:snd r:embed="rId3"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Заголовок 3" descr=""/>
          <p:cNvPicPr/>
          <p:nvPr/>
        </p:nvPicPr>
        <p:blipFill>
          <a:blip r:embed="rId1"/>
          <a:stretch/>
        </p:blipFill>
        <p:spPr>
          <a:xfrm>
            <a:off x="-133200" y="122400"/>
            <a:ext cx="1425600" cy="6192720"/>
          </a:xfrm>
          <a:prstGeom prst="rect">
            <a:avLst/>
          </a:prstGeom>
          <a:ln w="0">
            <a:noFill/>
          </a:ln>
        </p:spPr>
      </p:pic>
      <p:sp>
        <p:nvSpPr>
          <p:cNvPr id="379" name="PlaceHolder 1"/>
          <p:cNvSpPr>
            <a:spLocks noGrp="1"/>
          </p:cNvSpPr>
          <p:nvPr>
            <p:ph/>
          </p:nvPr>
        </p:nvSpPr>
        <p:spPr>
          <a:xfrm>
            <a:off x="1571400" y="1928520"/>
            <a:ext cx="2438280" cy="2428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Приведём по этой шкале высоты, отвечающие вершинам гор, самым низким точкам на дне впадин, озёр, морей и океанов, уровню воды в озёрах(в метрах).</a:t>
            </a:r>
            <a:endParaRPr b="0" lang="en-US" sz="1400" spc="-1" strike="noStrike">
              <a:solidFill>
                <a:srgbClr val="ffffff"/>
              </a:solidFill>
              <a:latin typeface="Century Gothic"/>
            </a:endParaRPr>
          </a:p>
        </p:txBody>
      </p:sp>
      <p:pic>
        <p:nvPicPr>
          <p:cNvPr id="380" name="Содержимое 6" descr="2.bmp"/>
          <p:cNvPicPr/>
          <p:nvPr/>
        </p:nvPicPr>
        <p:blipFill>
          <a:blip r:embed="rId2"/>
          <a:stretch/>
        </p:blipFill>
        <p:spPr>
          <a:xfrm>
            <a:off x="4214880" y="285840"/>
            <a:ext cx="4643280" cy="628632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Заголовок 1" descr=""/>
          <p:cNvPicPr/>
          <p:nvPr/>
        </p:nvPicPr>
        <p:blipFill>
          <a:blip r:embed="rId1"/>
          <a:stretch/>
        </p:blipFill>
        <p:spPr>
          <a:xfrm>
            <a:off x="109440" y="122400"/>
            <a:ext cx="1030320" cy="6217920"/>
          </a:xfrm>
          <a:prstGeom prst="rect">
            <a:avLst/>
          </a:prstGeom>
          <a:ln w="0">
            <a:noFill/>
          </a:ln>
        </p:spPr>
      </p:pic>
      <p:sp>
        <p:nvSpPr>
          <p:cNvPr id="382" name="PlaceHolder 1"/>
          <p:cNvSpPr>
            <a:spLocks noGrp="1"/>
          </p:cNvSpPr>
          <p:nvPr>
            <p:ph/>
          </p:nvPr>
        </p:nvSpPr>
        <p:spPr>
          <a:xfrm>
            <a:off x="1134720" y="428400"/>
            <a:ext cx="3151080" cy="55004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Теперь посмотрим на шкалу обычного уличного термометра. Она имеет вид изображённый на шакале 1. На шкале нанесены только положительные числа, и поэтому при указании численного значения температуры приходится пояснять 20 градусов тепла (выше нуля) или же 20 градусов мороза(ниже нуля).</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Это для физиков неудобно – ведь слова в формулу не подставишь! Поэтому в физике применяется шкала с отрицательными числами (шкала 2).</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При использовании такой шкалы не нужно ничего дополнительно говорить: 20 градусов тепла по такой шкале – это просто 20 градусов, а 20 градусов мороза – это -20 градусов.</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pic>
        <p:nvPicPr>
          <p:cNvPr id="383" name="Содержимое 4" descr="новый.bmp"/>
          <p:cNvPicPr/>
          <p:nvPr/>
        </p:nvPicPr>
        <p:blipFill>
          <a:blip r:embed="rId2"/>
          <a:stretch/>
        </p:blipFill>
        <p:spPr>
          <a:xfrm>
            <a:off x="5143680" y="1071720"/>
            <a:ext cx="3000240" cy="4357440"/>
          </a:xfrm>
          <a:prstGeom prst="rect">
            <a:avLst/>
          </a:prstGeom>
          <a:ln w="0">
            <a:noFill/>
          </a:ln>
        </p:spPr>
      </p:pic>
    </p:spTree>
  </p:cSld>
  <p:transition spd="slow">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Заголовок 4" descr=""/>
          <p:cNvPicPr/>
          <p:nvPr/>
        </p:nvPicPr>
        <p:blipFill>
          <a:blip r:embed="rId1"/>
          <a:stretch/>
        </p:blipFill>
        <p:spPr>
          <a:xfrm>
            <a:off x="-176040" y="146160"/>
            <a:ext cx="1468440" cy="6595920"/>
          </a:xfrm>
          <a:prstGeom prst="rect">
            <a:avLst/>
          </a:prstGeom>
          <a:ln w="0">
            <a:noFill/>
          </a:ln>
        </p:spPr>
      </p:pic>
      <p:pic>
        <p:nvPicPr>
          <p:cNvPr id="385" name="Содержимое 11" descr="666.bmp"/>
          <p:cNvPicPr/>
          <p:nvPr/>
        </p:nvPicPr>
        <p:blipFill>
          <a:blip r:embed="rId2"/>
          <a:stretch/>
        </p:blipFill>
        <p:spPr>
          <a:xfrm>
            <a:off x="3000240" y="0"/>
            <a:ext cx="3643560" cy="3286080"/>
          </a:xfrm>
          <a:prstGeom prst="rect">
            <a:avLst/>
          </a:prstGeom>
          <a:ln w="0">
            <a:noFill/>
          </a:ln>
        </p:spPr>
      </p:pic>
      <p:sp>
        <p:nvSpPr>
          <p:cNvPr id="386" name="PlaceHolder 1"/>
          <p:cNvSpPr>
            <a:spLocks noGrp="1"/>
          </p:cNvSpPr>
          <p:nvPr>
            <p:ph/>
          </p:nvPr>
        </p:nvSpPr>
        <p:spPr>
          <a:xfrm>
            <a:off x="1142640" y="3357360"/>
            <a:ext cx="8001000" cy="3500280"/>
          </a:xfrm>
          <a:prstGeom prst="rect">
            <a:avLst/>
          </a:prstGeom>
          <a:solidFill>
            <a:srgbClr val="ff388c">
              <a:alpha val="15000"/>
            </a:srgbClr>
          </a:solidFill>
          <a:ln w="9360">
            <a:solidFill>
              <a:srgbClr val="ff388c"/>
            </a:solidFill>
            <a:miter/>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entury Gothic"/>
              </a:rPr>
              <a:t> </a:t>
            </a:r>
            <a:r>
              <a:rPr b="0" lang="ru-RU" sz="1300" spc="-1" strike="noStrike">
                <a:solidFill>
                  <a:srgbClr val="ffffff"/>
                </a:solidFill>
                <a:latin typeface="Century Gothic"/>
              </a:rPr>
              <a:t>Понаблюдаем за движением автомашин по шоссе. Два потока машин несутся навстречу друг другу. А где же тут положительные и отрицательные числа? Да вот они – проносятся перед нами. Мы получим их если захотим описать движение автомобилей.</a:t>
            </a:r>
            <a:endParaRPr b="0" lang="en-US" sz="1300" spc="-1" strike="noStrike">
              <a:solidFill>
                <a:srgbClr val="ffffff"/>
              </a:solidFill>
              <a:latin typeface="Century Gothic"/>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entury Gothic"/>
              </a:rPr>
              <a:t>     </a:t>
            </a:r>
            <a:r>
              <a:rPr b="0" lang="ru-RU" sz="1300" spc="-1" strike="noStrike">
                <a:solidFill>
                  <a:srgbClr val="ffffff"/>
                </a:solidFill>
                <a:latin typeface="Century Gothic"/>
              </a:rPr>
              <a:t>Вот например мы видим, что зелёный «Москвич» проносится мимо нас со скоростью 100 км/ч, а грузовик со скоростью 70 км/ч. Но этих чисел не достаточно, если мы хотим указать ёще и направление движения. Действительно, ведь мы должны ёще добавить, что «Москвич» едет вправо, а грузовик - влево. </a:t>
            </a:r>
            <a:endParaRPr b="0" lang="en-US" sz="1300" spc="-1" strike="noStrike">
              <a:solidFill>
                <a:srgbClr val="ffffff"/>
              </a:solidFill>
              <a:latin typeface="Century Gothic"/>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entury Gothic"/>
              </a:rPr>
              <a:t>     </a:t>
            </a:r>
            <a:r>
              <a:rPr b="0" lang="ru-RU" sz="1300" spc="-1" strike="noStrike">
                <a:solidFill>
                  <a:srgbClr val="ffffff"/>
                </a:solidFill>
                <a:latin typeface="Century Gothic"/>
              </a:rPr>
              <a:t>Таким образом, чтобы охарактеризовать движение автомобиля по шоссе, надо не только указать, как быстро он едет (то есть указать величину его скорости), но и дополнительно пояснить, куда, в каком направлении он едет – вправо или влево. Но физики не любят таких дополнительных словесных пояснений. Они хотят иметь дело с числами и только числами поступают поэтому иначе. Давайте, говорят они, скорость автомобилей, движущихся вправо, считать положительной, а скорость автомобилей движущихся влево - отрицательной. Тогда можно будет не добавлять слов «влево», «вправо», а просто сказать: зелёный «Москвич» движется со скоростью 100 км/ч, а грузовик – со скоростью -70км/ч. То есть знак числа будет указывать направление скорости автомобилей.</a:t>
            </a:r>
            <a:endParaRPr b="0" lang="en-US" sz="1300" spc="-1" strike="noStrike">
              <a:solidFill>
                <a:srgbClr val="ffffff"/>
              </a:solidFill>
              <a:latin typeface="Century Gothic"/>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entury Gothic"/>
              </a:rPr>
              <a:t>     </a:t>
            </a:r>
            <a:r>
              <a:rPr b="0" lang="ru-RU" sz="1300" spc="-1" strike="noStrike">
                <a:solidFill>
                  <a:srgbClr val="ffffff"/>
                </a:solidFill>
                <a:latin typeface="Century Gothic"/>
              </a:rPr>
              <a:t>Отметим, что «положительное» направление движения можно выбирать произвольно. Например, можно было бы положительной считать скорости автомобилей, движущихся влево. Тогда скорости автомобилей, движущихся вправо выражались бы отрицательными числами.</a:t>
            </a:r>
            <a:endParaRPr b="0" lang="en-US" sz="1300" spc="-1" strike="noStrike">
              <a:solidFill>
                <a:srgbClr val="ffffff"/>
              </a:solidFill>
              <a:latin typeface="Century Gothic"/>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Заголовок 4" descr=""/>
          <p:cNvPicPr/>
          <p:nvPr/>
        </p:nvPicPr>
        <p:blipFill>
          <a:blip r:embed="rId1"/>
          <a:stretch/>
        </p:blipFill>
        <p:spPr>
          <a:xfrm>
            <a:off x="493560" y="1066680"/>
            <a:ext cx="8242560" cy="4370400"/>
          </a:xfrm>
          <a:prstGeom prst="rect">
            <a:avLst/>
          </a:prstGeom>
          <a:ln w="0">
            <a:noFill/>
          </a:ln>
        </p:spPr>
      </p:pic>
    </p:spTree>
  </p:cSld>
  <p:transition spd="slow">
    <p:strips dir="ld"/>
    <p:sndAc>
      <p:stSnd>
        <p:snd r:embed="rId2"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Заголовок 1" descr=""/>
          <p:cNvPicPr/>
          <p:nvPr/>
        </p:nvPicPr>
        <p:blipFill>
          <a:blip r:embed="rId1"/>
          <a:stretch/>
        </p:blipFill>
        <p:spPr>
          <a:xfrm>
            <a:off x="212760" y="146160"/>
            <a:ext cx="927000" cy="6626160"/>
          </a:xfrm>
          <a:prstGeom prst="rect">
            <a:avLst/>
          </a:prstGeom>
          <a:ln w="0">
            <a:noFill/>
          </a:ln>
        </p:spPr>
      </p:pic>
      <p:pic>
        <p:nvPicPr>
          <p:cNvPr id="355" name="Содержимое 4" descr="ня.bmp"/>
          <p:cNvPicPr/>
          <p:nvPr/>
        </p:nvPicPr>
        <p:blipFill>
          <a:blip r:embed="rId2"/>
          <a:stretch/>
        </p:blipFill>
        <p:spPr>
          <a:xfrm>
            <a:off x="1785960" y="1071720"/>
            <a:ext cx="5929200" cy="1643040"/>
          </a:xfrm>
          <a:prstGeom prst="rect">
            <a:avLst/>
          </a:prstGeom>
          <a:ln w="0">
            <a:noFill/>
          </a:ln>
        </p:spPr>
      </p:pic>
      <p:sp>
        <p:nvSpPr>
          <p:cNvPr id="356" name="PlaceHolder 1"/>
          <p:cNvSpPr>
            <a:spLocks noGrp="1"/>
          </p:cNvSpPr>
          <p:nvPr>
            <p:ph/>
          </p:nvPr>
        </p:nvSpPr>
        <p:spPr>
          <a:xfrm>
            <a:off x="1142640" y="3214800"/>
            <a:ext cx="7334280" cy="2928960"/>
          </a:xfrm>
          <a:prstGeom prst="rect">
            <a:avLst/>
          </a:prstGeom>
          <a:solidFill>
            <a:srgbClr val="ff388c">
              <a:alpha val="15000"/>
            </a:srgbClr>
          </a:solidFill>
          <a:ln w="9360">
            <a:solidFill>
              <a:srgbClr val="ff388c"/>
            </a:solidFill>
            <a:miter/>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История говорит о том, что люди долго не могли привыкнуть к отрицательным  числам. Отрицательные числа казались им непонятными, ими не пользовались, просто не видели в них особого смысла. Положительные числа долго трактовали как «прибыль», а отрицательные – как «долг», «убыток».Лишь в Древней Индии и Китае догадались вместо слов «долг в десять юаней» писать просто «десять юаней»,но рисовать эти иероглифы (в Китае слова не записывают буквами, а рисуют иероглифами) черной тушью. Имущество, прибыль, записывают тушью другого цвета, красной. А знаков « + » и « - »,  о которых мы говорили, в древности не было ни для чисел, ни для действий.</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endParaRPr b="0" lang="en-US" sz="1400" spc="-1" strike="noStrike">
              <a:solidFill>
                <a:srgbClr val="ffffff"/>
              </a:solidFill>
              <a:latin typeface="Century Gothic"/>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Заголовок 1" descr=""/>
          <p:cNvPicPr/>
          <p:nvPr/>
        </p:nvPicPr>
        <p:blipFill>
          <a:blip r:embed="rId1"/>
          <a:stretch/>
        </p:blipFill>
        <p:spPr>
          <a:xfrm>
            <a:off x="212760" y="195120"/>
            <a:ext cx="927000" cy="6120000"/>
          </a:xfrm>
          <a:prstGeom prst="rect">
            <a:avLst/>
          </a:prstGeom>
          <a:ln w="0">
            <a:noFill/>
          </a:ln>
        </p:spPr>
      </p:pic>
      <p:sp>
        <p:nvSpPr>
          <p:cNvPr id="358" name="PlaceHolder 1"/>
          <p:cNvSpPr>
            <a:spLocks noGrp="1"/>
          </p:cNvSpPr>
          <p:nvPr>
            <p:ph/>
          </p:nvPr>
        </p:nvSpPr>
        <p:spPr>
          <a:xfrm>
            <a:off x="1285560" y="1999800"/>
            <a:ext cx="3149640" cy="4311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Греки тоже по началу знаков не использовали, пока в третьем веке Диофант Александрийский не стал обозначать вычитание значком «↑», но у других ученых ничего похожего не было.</a:t>
            </a:r>
            <a:endParaRPr b="0" lang="en-US" sz="1400" spc="-1" strike="noStrike">
              <a:solidFill>
                <a:srgbClr val="ffffff"/>
              </a:solidFill>
              <a:latin typeface="Century Gothic"/>
            </a:endParaRPr>
          </a:p>
        </p:txBody>
      </p:sp>
      <p:pic>
        <p:nvPicPr>
          <p:cNvPr id="359" name="Содержимое 4" descr="ddiofant.jpg"/>
          <p:cNvPicPr/>
          <p:nvPr/>
        </p:nvPicPr>
        <p:blipFill>
          <a:blip r:embed="rId2"/>
          <a:stretch/>
        </p:blipFill>
        <p:spPr>
          <a:xfrm>
            <a:off x="5214960" y="1285920"/>
            <a:ext cx="3000240" cy="364320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Заголовок 1" descr=""/>
          <p:cNvPicPr/>
          <p:nvPr/>
        </p:nvPicPr>
        <p:blipFill>
          <a:blip r:embed="rId1"/>
          <a:stretch/>
        </p:blipFill>
        <p:spPr>
          <a:xfrm>
            <a:off x="212760" y="146160"/>
            <a:ext cx="927000" cy="6626160"/>
          </a:xfrm>
          <a:prstGeom prst="rect">
            <a:avLst/>
          </a:prstGeom>
          <a:ln w="0">
            <a:noFill/>
          </a:ln>
        </p:spPr>
      </p:pic>
      <p:pic>
        <p:nvPicPr>
          <p:cNvPr id="361" name="Рисунок 4" descr="ппп.bmp"/>
          <p:cNvPicPr/>
          <p:nvPr/>
        </p:nvPicPr>
        <p:blipFill>
          <a:blip r:embed="rId2"/>
          <a:stretch/>
        </p:blipFill>
        <p:spPr>
          <a:xfrm>
            <a:off x="2428920" y="571680"/>
            <a:ext cx="4786200" cy="1928520"/>
          </a:xfrm>
          <a:prstGeom prst="rect">
            <a:avLst/>
          </a:prstGeom>
          <a:ln w="0">
            <a:noFill/>
          </a:ln>
        </p:spPr>
      </p:pic>
      <p:sp>
        <p:nvSpPr>
          <p:cNvPr id="362" name="PlaceHolder 1"/>
          <p:cNvSpPr>
            <a:spLocks noGrp="1"/>
          </p:cNvSpPr>
          <p:nvPr>
            <p:ph/>
          </p:nvPr>
        </p:nvSpPr>
        <p:spPr>
          <a:xfrm>
            <a:off x="1143000" y="3143160"/>
            <a:ext cx="7429680" cy="3409920"/>
          </a:xfrm>
          <a:prstGeom prst="rect">
            <a:avLst/>
          </a:prstGeom>
          <a:solidFill>
            <a:srgbClr val="ff388c">
              <a:alpha val="15000"/>
            </a:srgbClr>
          </a:solidFill>
          <a:ln w="9360">
            <a:solidFill>
              <a:srgbClr val="ff388c"/>
            </a:solidFill>
            <a:miter/>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В Италии ростовщики, давая деньги в долг, ставили перед именем должника сумму долга и черточку ,вроде минуса, а когда должник возвращал деньги, зачеркивали её, получалось что-то вроде плюса. Чех Ян Видман уже писал « + » и « - » для сложения и вычитания. А чуть позднее немецкий ученый Михаэль Штифель написал «Полную Арифметику»,которая была напечатана в 1544 году, именно напечатана, а не написана от руки, как было когда -то. В ней встречаются такие записи для чисел: 0-2;0+2;0-5;0+7 и так далее.</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Числа первого вида он называл «меньше, чем ничего» или «ниже, чем ничего».Числа второго вида, положительные числа, можно назвать «больше, чем ничего» или «выше, чем ничего». «Ничего»  – это нуль. Об этих числах всегда велись разговоры в ученых кругах. Предлагались другие обозначения, придумывались изображения.</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Заголовок 1" descr=""/>
          <p:cNvPicPr/>
          <p:nvPr/>
        </p:nvPicPr>
        <p:blipFill>
          <a:blip r:embed="rId1"/>
          <a:stretch/>
        </p:blipFill>
        <p:spPr>
          <a:xfrm>
            <a:off x="-6480" y="195120"/>
            <a:ext cx="798480" cy="6120000"/>
          </a:xfrm>
          <a:prstGeom prst="rect">
            <a:avLst/>
          </a:prstGeom>
          <a:ln w="0">
            <a:noFill/>
          </a:ln>
        </p:spPr>
      </p:pic>
      <p:sp>
        <p:nvSpPr>
          <p:cNvPr id="364" name="PlaceHolder 1"/>
          <p:cNvSpPr>
            <a:spLocks noGrp="1"/>
          </p:cNvSpPr>
          <p:nvPr>
            <p:ph/>
          </p:nvPr>
        </p:nvSpPr>
        <p:spPr>
          <a:xfrm>
            <a:off x="856800" y="214200"/>
            <a:ext cx="3000600" cy="6429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На термометре, на числовой оси, на любом из них для каждого натурального числа найдется его противоположность - отрицательное число: для 2 найдется  «-2»,для 100 – «-100».</a:t>
            </a: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Для любого положительного числа существует противоположное отрицательное, и , наоборот , можно сказать: для любого отрицательного числа существует положительное число.</a:t>
            </a: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Понижение противоположно повышению. Если есть верх, то есть и низ. Тепло и холод, добро и зло, счастье и горе – такими противоположностями наполнен наш мир. И целые числа отражают этот факт – отрицательные и положительные числа противоположны друг другу.</a:t>
            </a: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Знак минус многолик. Он и знак отрицательного числа, и знак противоположности, а ещё минус знак вычитания.</a:t>
            </a:r>
            <a:endParaRPr b="0" lang="en-US" sz="1400" spc="-1" strike="noStrike">
              <a:solidFill>
                <a:srgbClr val="ffffff"/>
              </a:solidFill>
              <a:latin typeface="Century Gothic"/>
            </a:endParaRPr>
          </a:p>
        </p:txBody>
      </p:sp>
      <p:pic>
        <p:nvPicPr>
          <p:cNvPr id="365" name="Содержимое 4" descr="1.bmp"/>
          <p:cNvPicPr/>
          <p:nvPr/>
        </p:nvPicPr>
        <p:blipFill>
          <a:blip r:embed="rId2"/>
          <a:stretch/>
        </p:blipFill>
        <p:spPr>
          <a:xfrm>
            <a:off x="4000680" y="642960"/>
            <a:ext cx="4643280" cy="535788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Заголовок 1" descr=""/>
          <p:cNvPicPr/>
          <p:nvPr/>
        </p:nvPicPr>
        <p:blipFill>
          <a:blip r:embed="rId1"/>
          <a:stretch/>
        </p:blipFill>
        <p:spPr>
          <a:xfrm>
            <a:off x="-23760" y="115920"/>
            <a:ext cx="1030320" cy="6261120"/>
          </a:xfrm>
          <a:prstGeom prst="rect">
            <a:avLst/>
          </a:prstGeom>
          <a:ln w="0">
            <a:noFill/>
          </a:ln>
        </p:spPr>
      </p:pic>
      <p:sp>
        <p:nvSpPr>
          <p:cNvPr id="367" name="PlaceHolder 1"/>
          <p:cNvSpPr>
            <a:spLocks noGrp="1"/>
          </p:cNvSpPr>
          <p:nvPr>
            <p:ph/>
          </p:nvPr>
        </p:nvSpPr>
        <p:spPr>
          <a:xfrm>
            <a:off x="928800" y="142920"/>
            <a:ext cx="3357360" cy="65008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А как возникают числа в физике? Физик имеет дело с различными физическими величинами, описывающими разнообразные свойства окружающих нас предметов и явлений. Измерения физических величин  проводятся при помощи измерительных приборов, таких как линейка, часы, весы и так далее. Например, высоту здания и расстояние от школы до дома можно измерить рулеткой (линейкой), массу тела – весами, температуру - термометром, скорость автомобиля – спидометром ,объём банки – мензуркой и так далее. Если посмотреть, как снимаются показания этих приборов, как устроены их шкалы, то убеждаешься, что результатом любого измерения является число, причем число это может быть либо положительным, либо отрицательным, либо нулем.</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Итак, числа в физике возникают в результате измерения физических величин.</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pic>
        <p:nvPicPr>
          <p:cNvPr id="368" name="Содержимое 4" descr="6.bmp"/>
          <p:cNvPicPr/>
          <p:nvPr/>
        </p:nvPicPr>
        <p:blipFill>
          <a:blip r:embed="rId2"/>
          <a:stretch/>
        </p:blipFill>
        <p:spPr>
          <a:xfrm>
            <a:off x="4214880" y="928800"/>
            <a:ext cx="4643280" cy="507204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Заголовок 1" descr=""/>
          <p:cNvPicPr/>
          <p:nvPr/>
        </p:nvPicPr>
        <p:blipFill>
          <a:blip r:embed="rId1"/>
          <a:stretch/>
        </p:blipFill>
        <p:spPr>
          <a:xfrm>
            <a:off x="-176040" y="0"/>
            <a:ext cx="1468440" cy="6742080"/>
          </a:xfrm>
          <a:prstGeom prst="rect">
            <a:avLst/>
          </a:prstGeom>
          <a:ln w="0">
            <a:noFill/>
          </a:ln>
        </p:spPr>
      </p:pic>
      <p:pic>
        <p:nvPicPr>
          <p:cNvPr id="370" name="Рисунок 4" descr="2-1.jpg"/>
          <p:cNvPicPr/>
          <p:nvPr/>
        </p:nvPicPr>
        <p:blipFill>
          <a:blip r:embed="rId2"/>
          <a:srcRect l="7976" t="0" r="7976" b="0"/>
          <a:stretch/>
        </p:blipFill>
        <p:spPr>
          <a:xfrm>
            <a:off x="1138320" y="374760"/>
            <a:ext cx="7334280" cy="4411440"/>
          </a:xfrm>
          <a:prstGeom prst="rect">
            <a:avLst/>
          </a:prstGeom>
          <a:ln w="0">
            <a:noFill/>
          </a:ln>
        </p:spPr>
      </p:pic>
      <p:sp>
        <p:nvSpPr>
          <p:cNvPr id="371" name="PlaceHolder 1"/>
          <p:cNvSpPr>
            <a:spLocks noGrp="1"/>
          </p:cNvSpPr>
          <p:nvPr>
            <p:ph/>
          </p:nvPr>
        </p:nvSpPr>
        <p:spPr>
          <a:xfrm>
            <a:off x="1142640" y="4857480"/>
            <a:ext cx="7334280" cy="1695240"/>
          </a:xfrm>
          <a:prstGeom prst="rect">
            <a:avLst/>
          </a:prstGeom>
          <a:solidFill>
            <a:srgbClr val="ff388c">
              <a:alpha val="15000"/>
            </a:srgbClr>
          </a:solidFill>
          <a:ln w="9360">
            <a:solidFill>
              <a:srgbClr val="ff388c"/>
            </a:solidFill>
            <a:miter/>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 </a:t>
            </a:r>
            <a:r>
              <a:rPr b="0" lang="ru-RU" sz="1400" spc="-1" strike="noStrike">
                <a:solidFill>
                  <a:srgbClr val="ffffff"/>
                </a:solidFill>
                <a:latin typeface="Century Gothic"/>
              </a:rPr>
              <a:t>Посмотрим на физическую карту мира. Участки суши на ней раскрашены различными оттенками зеленого и коричневого цветов, а моря и океаны раскрашены голубым, синим. Каждому цвету соответствует своя высота (для суши) или глубина (для морей и океанов). На карте нарисована шкала глубин и высот, которая показывает какую высоту(глубину) означает тот или иной цвет, например такая:</a:t>
            </a:r>
            <a:endParaRPr b="0" lang="en-US" sz="1400" spc="-1" strike="noStrike">
              <a:solidFill>
                <a:srgbClr val="ffffff"/>
              </a:solidFill>
              <a:latin typeface="Century Gothic"/>
            </a:endParaRPr>
          </a:p>
        </p:txBody>
      </p:sp>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Заголовок 1" descr=""/>
          <p:cNvPicPr/>
          <p:nvPr/>
        </p:nvPicPr>
        <p:blipFill>
          <a:blip r:embed="rId1"/>
          <a:stretch/>
        </p:blipFill>
        <p:spPr>
          <a:xfrm>
            <a:off x="-176040" y="0"/>
            <a:ext cx="1468440" cy="6742080"/>
          </a:xfrm>
          <a:prstGeom prst="rect">
            <a:avLst/>
          </a:prstGeom>
          <a:ln w="0">
            <a:noFill/>
          </a:ln>
        </p:spPr>
      </p:pic>
      <p:pic>
        <p:nvPicPr>
          <p:cNvPr id="373" name="Рисунок 5" descr="1.bmp"/>
          <p:cNvPicPr/>
          <p:nvPr/>
        </p:nvPicPr>
        <p:blipFill>
          <a:blip r:embed="rId2"/>
          <a:stretch/>
        </p:blipFill>
        <p:spPr>
          <a:xfrm>
            <a:off x="1143000" y="0"/>
            <a:ext cx="8001000" cy="1914480"/>
          </a:xfrm>
          <a:prstGeom prst="rect">
            <a:avLst/>
          </a:prstGeom>
          <a:ln w="0">
            <a:noFill/>
          </a:ln>
        </p:spPr>
      </p:pic>
      <p:sp>
        <p:nvSpPr>
          <p:cNvPr id="374" name="PlaceHolder 1"/>
          <p:cNvSpPr>
            <a:spLocks noGrp="1"/>
          </p:cNvSpPr>
          <p:nvPr>
            <p:ph/>
          </p:nvPr>
        </p:nvSpPr>
        <p:spPr>
          <a:xfrm>
            <a:off x="1142640" y="1928520"/>
            <a:ext cx="8001000" cy="4624200"/>
          </a:xfrm>
          <a:prstGeom prst="rect">
            <a:avLst/>
          </a:prstGeom>
          <a:solidFill>
            <a:srgbClr val="ff388c">
              <a:alpha val="15000"/>
            </a:srgbClr>
          </a:solidFill>
          <a:ln w="9360">
            <a:solidFill>
              <a:srgbClr val="ff388c"/>
            </a:solidFill>
            <a:miter/>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На этой шкале мы видим только положительные числа и нуль. За нуль принимается высота (и глубина тоже), на которой находится поверхность воды в Мировом океане. Использование в этой шкале только неотрицательных чисел неудобно для математика или физика, так как тогда указание числа (например, 2000)само по себе не позволяет понять, о чём идет речь – о высоте 2000 м, на которой находится вершина горы, или о глубине 2000 м, на которой затонул корабль с сокровищами. Приходится дополнительно словами «высота», «глубина» пояснять, что же мы имеем в виду: 2000 м высоты или 2000 м глубины. Математикам и физикам не нравится добавлять к числу дополнительные слова «высота», «глубина». Им хочется иметь такую шкалу, чтобы можно было назвать число без всяких дополнительных слов. При построении такой таблицы физик рассуждает следующим образом: «Я начинаю спуск с вершины горы, с высоты 2000м. Я иду вниз, и высота, на которой я сейчас нахожусь, становиться все меньше и меньше. Вот я спустился до высоты 1000 м, теперь я на высоте 500 м, вот я уже на высоте 200 м, и вот, наконец, я спустился к самому морю. Я стою у кромки воды, и волны лижут подошвы моих ботинок. Значит я нахожусь на высоте 0 м над уровнем моря. Здесь я надеваю водолазный скафандр и, ступая по дну моря, продолжаю спускаться вниз. Я иду вниз, значит, высота, на которой я нахожусь, становиться еще меньше, меньше нуля. А я знаю, что есть числа, меньшие  нуля – это отрицательные числа! Следовательно, здесь, на дне моря, высота отрицательная. Сейчас я спустился на 100 м вниз от кромки воды, и могу сказать, что нахожусь на высоте -100 м. А если бы я не пользовался отрицательными числами, то мне бы пришлось сказать, что я нахожусь на глубине 100 м». В итоге у физика получается такая шкала высот:</a:t>
            </a:r>
            <a:endParaRPr b="0" lang="en-US" sz="1400" spc="-1" strike="noStrike">
              <a:solidFill>
                <a:srgbClr val="ffffff"/>
              </a:solidFill>
              <a:latin typeface="Century Gothic"/>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Заголовок 1" descr=""/>
          <p:cNvPicPr/>
          <p:nvPr/>
        </p:nvPicPr>
        <p:blipFill>
          <a:blip r:embed="rId1"/>
          <a:stretch/>
        </p:blipFill>
        <p:spPr>
          <a:xfrm>
            <a:off x="-6480" y="189000"/>
            <a:ext cx="798480" cy="6119640"/>
          </a:xfrm>
          <a:prstGeom prst="rect">
            <a:avLst/>
          </a:prstGeom>
          <a:ln w="0">
            <a:noFill/>
          </a:ln>
        </p:spPr>
      </p:pic>
      <p:sp>
        <p:nvSpPr>
          <p:cNvPr id="376" name="PlaceHolder 1"/>
          <p:cNvSpPr>
            <a:spLocks noGrp="1"/>
          </p:cNvSpPr>
          <p:nvPr>
            <p:ph/>
          </p:nvPr>
        </p:nvSpPr>
        <p:spPr>
          <a:xfrm>
            <a:off x="856800" y="285840"/>
            <a:ext cx="2143080" cy="5857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entury Gothic"/>
              </a:rPr>
              <a:t>Используя такую шкалу, достаточно указать число без всяких дополнительных слов: положительные числа отвечают различным местам на суше, находящимся над поверхностью моря, отрицательные числа соответствуют точкам, находящимся под поверхностью моря. Так, вершине горы может соответствовать число 2000,а затонувшему кораблю – число -2000, но никак не наоборот. </a:t>
            </a:r>
            <a:endParaRPr b="0" lang="en-US" sz="1400" spc="-1" strike="noStrike">
              <a:solidFill>
                <a:srgbClr val="ffffff"/>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pic>
        <p:nvPicPr>
          <p:cNvPr id="377" name="Содержимое 3" descr="1.bmp"/>
          <p:cNvPicPr/>
          <p:nvPr/>
        </p:nvPicPr>
        <p:blipFill>
          <a:blip r:embed="rId2"/>
          <a:stretch/>
        </p:blipFill>
        <p:spPr>
          <a:xfrm>
            <a:off x="2928960" y="1714680"/>
            <a:ext cx="6215040" cy="2286000"/>
          </a:xfrm>
          <a:prstGeom prst="rect">
            <a:avLst/>
          </a:prstGeom>
          <a:ln w="0">
            <a:noFill/>
          </a:ln>
        </p:spPr>
      </p:pic>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5:01:17Z</dcterms:created>
  <dc:creator>User</dc:creator>
  <dc:description/>
  <dc:language>en-US</dc:language>
  <cp:lastModifiedBy>User</cp:lastModifiedBy>
  <dcterms:modified xsi:type="dcterms:W3CDTF">2009-04-19T17:33:36Z</dcterms:modified>
  <cp:revision>50</cp:revision>
  <dc:subject/>
  <dc:title>         История развития    положительных и   отрицательных чисел</dc:title>
</cp:coreProperties>
</file>